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C1B-8A2E-4393-AE84-B149FC8D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2AB9-E3F6-4122-A14A-02931AE2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5AB-4BB6-400A-9B2D-AF094CE0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F58-9676-4A1B-8653-EFA390F1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60B-B08D-4376-BEF2-2103ED5F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C4B-56EF-4D69-B9EA-EE680F74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B96-75C4-43AB-8A27-632DC92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CBE-5021-4A2C-9227-249AB2DD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1C9-70FB-433E-8087-202B166B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1FE-6962-4C92-90F1-528CFF8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242-CD1D-4BA3-99DC-5749EF5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620-7E8D-4725-BB3D-0BAB944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E8B-8111-4E38-8965-ABA0FBA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DDB-2F1A-4BE6-8B2D-9048CC7B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6A37-B093-4948-8972-52C6F7C8C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8-2009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ulinary Arts, Dance, Dentistry, Elementary Education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0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0 and 2011 only.  2012 &amp; 2013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11 &amp; 12), Am. History, Sciences, 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12-04T20:14:00Z</dcterms:modified>
  <cp:revision>39</cp:revision>
  <dc:subject/>
  <dc:title>Berwick Area High School</dc:title>
</cp:coreProperties>
</file>